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bomb.wav" ContentType="audio/x-wav"/>
  <Override PartName="/ppt/media/image29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28.png" ContentType="image/png"/>
  <Override PartName="/ppt/media/applause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13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A06-C51F-42BD-A521-239C37E1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054-9FE9-4948-9905-A0F75202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9C4-7E51-4012-BFFC-219B78CC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058-D49C-497F-AE6F-52485100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A91A-06BA-4AE1-BD2D-7AB62BBB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2006-44DC-4142-913A-C571177E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463A-E4BB-4A98-8C82-88F30DB5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B709-2646-4535-B936-F37299A7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15E8-4678-428C-B4AF-696BD0CE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377B-CC27-4818-8506-C7D2BB30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0B24-5858-454B-BFCE-72749242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C88-8E93-4868-9187-65C1B799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26E7-09A7-42D5-9B85-F59FF788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B30A-C594-4501-97A9-0414ECE3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CC88-90EA-45EC-8999-CC052325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9A02-9176-47FD-986D-383200CC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27BF-76DC-4860-B3C5-5C7EF2D2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7D4-18E4-4834-B8E2-FAA23BAB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545-6E03-4405-8B68-28229E7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67D-D6D2-4582-BEC8-9373CD88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9A5-CF78-46EC-8687-BF2F4FC4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D2F-A8DB-4927-967B-D183A7D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0E3-75C1-46F6-A2DB-8CA5422C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CD2-9FC8-4CAA-B359-13748DA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D79D-FC6D-4F39-9C8C-D9235754A5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D978-2B45-4CC7-B43A-52E40AF2D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slide" Target="slide4.xml"/><Relationship Id="rId8" Type="http://schemas.openxmlformats.org/officeDocument/2006/relationships/image" Target="../media/image2.jpeg"/><Relationship Id="rId9" Type="http://schemas.openxmlformats.org/officeDocument/2006/relationships/slide" Target="slide10.xml"/><Relationship Id="rId10" Type="http://schemas.openxmlformats.org/officeDocument/2006/relationships/image" Target="../media/image2.jpeg"/><Relationship Id="rId11" Type="http://schemas.openxmlformats.org/officeDocument/2006/relationships/slide" Target="slide6.xml"/><Relationship Id="rId12" Type="http://schemas.openxmlformats.org/officeDocument/2006/relationships/image" Target="../media/image2.jpeg"/><Relationship Id="rId13" Type="http://schemas.openxmlformats.org/officeDocument/2006/relationships/slide" Target="slide12.xml"/><Relationship Id="rId14" Type="http://schemas.openxmlformats.org/officeDocument/2006/relationships/image" Target="../media/image2.jpeg"/><Relationship Id="rId15" Type="http://schemas.openxmlformats.org/officeDocument/2006/relationships/slide" Target="slide14.xml"/><Relationship Id="rId16" Type="http://schemas.openxmlformats.org/officeDocument/2006/relationships/image" Target="../media/image2.jpeg"/><Relationship Id="rId17" Type="http://schemas.openxmlformats.org/officeDocument/2006/relationships/slide" Target="slide16.xml"/><Relationship Id="rId18" Type="http://schemas.openxmlformats.org/officeDocument/2006/relationships/image" Target="../media/image2.jpeg"/><Relationship Id="rId19" Type="http://schemas.openxmlformats.org/officeDocument/2006/relationships/slide" Target="slide18.xml"/><Relationship Id="rId20" Type="http://schemas.openxmlformats.org/officeDocument/2006/relationships/image" Target="../media/image2.jpeg"/><Relationship Id="rId21" Type="http://schemas.openxmlformats.org/officeDocument/2006/relationships/slide" Target="slide20.xml"/><Relationship Id="rId22" Type="http://schemas.openxmlformats.org/officeDocument/2006/relationships/image" Target="../media/image2.jpeg"/><Relationship Id="rId23" Type="http://schemas.openxmlformats.org/officeDocument/2006/relationships/slide" Target="slide22.xml"/><Relationship Id="rId24" Type="http://schemas.openxmlformats.org/officeDocument/2006/relationships/image" Target="../media/image2.jpeg"/><Relationship Id="rId25" Type="http://schemas.openxmlformats.org/officeDocument/2006/relationships/slide" Target="slide24.xml"/><Relationship Id="rId26" Type="http://schemas.openxmlformats.org/officeDocument/2006/relationships/image" Target="../media/image2.jpeg"/><Relationship Id="rId27" Type="http://schemas.openxmlformats.org/officeDocument/2006/relationships/slide" Target="slide26.xml"/><Relationship Id="rId28" Type="http://schemas.openxmlformats.org/officeDocument/2006/relationships/image" Target="../media/image2.jpeg"/><Relationship Id="rId29" Type="http://schemas.openxmlformats.org/officeDocument/2006/relationships/slide" Target="slide28.xml"/><Relationship Id="rId30" Type="http://schemas.openxmlformats.org/officeDocument/2006/relationships/image" Target="../media/image2.jpeg"/><Relationship Id="rId31" Type="http://schemas.openxmlformats.org/officeDocument/2006/relationships/slide" Target="slide30.xml"/><Relationship Id="rId32" Type="http://schemas.openxmlformats.org/officeDocument/2006/relationships/image" Target="../media/image2.jpeg"/><Relationship Id="rId33" Type="http://schemas.openxmlformats.org/officeDocument/2006/relationships/slide" Target="slide32.xml"/><Relationship Id="rId34" Type="http://schemas.openxmlformats.org/officeDocument/2006/relationships/image" Target="../media/image2.jpeg"/><Relationship Id="rId35" Type="http://schemas.openxmlformats.org/officeDocument/2006/relationships/slide" Target="slide34.xml"/><Relationship Id="rId36" Type="http://schemas.openxmlformats.org/officeDocument/2006/relationships/image" Target="../media/image2.jpeg"/><Relationship Id="rId37" Type="http://schemas.openxmlformats.org/officeDocument/2006/relationships/slide" Target="slide36.xml"/><Relationship Id="rId38" Type="http://schemas.openxmlformats.org/officeDocument/2006/relationships/image" Target="../media/image2.jpeg"/><Relationship Id="rId39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47.xm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49.xm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51.xm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53.xm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55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9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57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59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3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5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7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9.xml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7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73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4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43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4.xml"/><Relationship Id="rId4" Type="http://schemas.openxmlformats.org/officeDocument/2006/relationships/image" Target="../media/image10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4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45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1306440" cy="58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ccff"/>
                </a:solidFill>
                <a:uFillTx/>
                <a:latin typeface="Arial"/>
                <a:hlinkClick r:id="rId3" action="ppaction://hlinksldjump"/>
              </a:rPr>
              <a:t>45 :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1989000"/>
            <a:ext cx="2643120" cy="30322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468360" y="2708280"/>
            <a:ext cx="1306440" cy="584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48 :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7" action="ppaction://hlinksldjump"/>
          </p:cNvPr>
          <p:cNvSpPr/>
          <p:nvPr/>
        </p:nvSpPr>
        <p:spPr>
          <a:xfrm>
            <a:off x="1908000" y="1989000"/>
            <a:ext cx="1306800" cy="584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27 :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9" action="ppaction://hlinksldjump"/>
          </p:cNvPr>
          <p:cNvSpPr/>
          <p:nvPr/>
        </p:nvSpPr>
        <p:spPr>
          <a:xfrm>
            <a:off x="1908000" y="2708280"/>
            <a:ext cx="1306800" cy="584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12 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11" action="ppaction://hlinksldjump"/>
          </p:cNvPr>
          <p:cNvSpPr/>
          <p:nvPr/>
        </p:nvSpPr>
        <p:spPr>
          <a:xfrm>
            <a:off x="3419640" y="5013360"/>
            <a:ext cx="1306440" cy="584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32 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13" action="ppaction://hlinksldjump"/>
          </p:cNvPr>
          <p:cNvSpPr/>
          <p:nvPr/>
        </p:nvSpPr>
        <p:spPr>
          <a:xfrm>
            <a:off x="3419640" y="2708280"/>
            <a:ext cx="1306440" cy="584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24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: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15" action="ppaction://hlinksldjump"/>
          </p:cNvPr>
          <p:cNvSpPr/>
          <p:nvPr/>
        </p:nvSpPr>
        <p:spPr>
          <a:xfrm>
            <a:off x="468360" y="3429000"/>
            <a:ext cx="1306440" cy="584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9 :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17" action="ppaction://hlinksldjump"/>
          </p:cNvPr>
          <p:cNvSpPr/>
          <p:nvPr/>
        </p:nvSpPr>
        <p:spPr>
          <a:xfrm>
            <a:off x="3419640" y="1989000"/>
            <a:ext cx="1306440" cy="584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18 :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19" action="ppaction://hlinksldjump"/>
          </p:cNvPr>
          <p:cNvSpPr/>
          <p:nvPr/>
        </p:nvSpPr>
        <p:spPr>
          <a:xfrm>
            <a:off x="468360" y="4221000"/>
            <a:ext cx="1306440" cy="584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42 :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1" action="ppaction://hlinksldjump"/>
          </p:cNvPr>
          <p:cNvSpPr/>
          <p:nvPr/>
        </p:nvSpPr>
        <p:spPr>
          <a:xfrm>
            <a:off x="3419640" y="3429000"/>
            <a:ext cx="1306440" cy="584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63 :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3" action="ppaction://hlinksldjump"/>
          </p:cNvPr>
          <p:cNvSpPr/>
          <p:nvPr/>
        </p:nvSpPr>
        <p:spPr>
          <a:xfrm>
            <a:off x="1908000" y="4221000"/>
            <a:ext cx="1306800" cy="5842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64 :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25" action="ppaction://hlinksldjump"/>
          </p:cNvPr>
          <p:cNvSpPr/>
          <p:nvPr/>
        </p:nvSpPr>
        <p:spPr>
          <a:xfrm>
            <a:off x="3419640" y="4221000"/>
            <a:ext cx="1306440" cy="584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56 :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27" action="ppaction://hlinksldjump"/>
          </p:cNvPr>
          <p:cNvSpPr/>
          <p:nvPr/>
        </p:nvSpPr>
        <p:spPr>
          <a:xfrm>
            <a:off x="468360" y="5013360"/>
            <a:ext cx="1306440" cy="5842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8 :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29" action="ppaction://hlinksldjump"/>
          </p:cNvPr>
          <p:cNvSpPr/>
          <p:nvPr/>
        </p:nvSpPr>
        <p:spPr>
          <a:xfrm>
            <a:off x="1908000" y="5013360"/>
            <a:ext cx="1306800" cy="58428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36 :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31" action="ppaction://hlinksldjump"/>
          </p:cNvPr>
          <p:cNvSpPr/>
          <p:nvPr/>
        </p:nvSpPr>
        <p:spPr>
          <a:xfrm>
            <a:off x="1908000" y="3429000"/>
            <a:ext cx="1306800" cy="584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28 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3" action="ppaction://hlinksldjump"/>
          </p:cNvPr>
          <p:cNvSpPr/>
          <p:nvPr/>
        </p:nvSpPr>
        <p:spPr>
          <a:xfrm>
            <a:off x="468360" y="5805360"/>
            <a:ext cx="1306440" cy="58428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0 :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5" action="ppaction://hlinksldjump"/>
          </p:cNvPr>
          <p:cNvSpPr/>
          <p:nvPr/>
        </p:nvSpPr>
        <p:spPr>
          <a:xfrm>
            <a:off x="1908000" y="5805360"/>
            <a:ext cx="1306800" cy="5842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50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7" action="ppaction://hlinksldjump"/>
          </p:cNvPr>
          <p:cNvSpPr/>
          <p:nvPr/>
        </p:nvSpPr>
        <p:spPr>
          <a:xfrm>
            <a:off x="3419640" y="5805360"/>
            <a:ext cx="1306440" cy="58428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14 :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5229000"/>
            <a:ext cx="4105080" cy="13683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12 : 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09" name="">
            <a:hlinkClick r:id="rId5" action="ppaction://hlinksldjump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24 : 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32" name="">
            <a:hlinkClick r:id="rId5" action="ppaction://hlinksldjump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9 : 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55" name="">
            <a:hlinkClick r:id="rId5" action="ppaction://hlinksldjump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18 : 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78" name="">
            <a:hlinkClick r:id="rId5" action="ppaction://hlinksldjump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42 : 7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45 : 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63 : 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64 : 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56 : 7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8 : 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36 : 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>
            <a:hlinkClick r:id="rId3" action="ppaction://hlinksldjump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2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28 : 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>
            <a:hlinkClick r:id="rId3" action="ppaction://hlinksldjump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0 : 1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461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1989000"/>
            <a:ext cx="360036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50 : 1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>
            <a:hlinkClick r:id="rId3" action="ppaction://hlinksldjump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487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14 : 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>
            <a:hlinkClick r:id="rId3" action="ppaction://hlinksldjump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510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45 : 9 = 5</a:t>
            </a: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5 x 9 = 45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21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24" name="" descr=""/>
          <p:cNvPicPr/>
          <p:nvPr/>
        </p:nvPicPr>
        <p:blipFill>
          <a:blip r:embed="rId7"/>
          <a:stretch/>
        </p:blipFill>
        <p:spPr>
          <a:xfrm>
            <a:off x="4716360" y="2133720"/>
            <a:ext cx="3943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27 : 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6732720" y="321300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956720" y="321300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2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27 : 3 = 9</a:t>
            </a: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9x3= 27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33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36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895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32 : 4 = 8</a:t>
            </a: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4 = 3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45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48" name="" descr=""/>
          <p:cNvPicPr/>
          <p:nvPr/>
        </p:nvPicPr>
        <p:blipFill>
          <a:blip r:embed="rId7"/>
          <a:stretch/>
        </p:blipFill>
        <p:spPr>
          <a:xfrm>
            <a:off x="4716360" y="2205000"/>
            <a:ext cx="3886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48 : 6 = 8</a:t>
            </a: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6 = 4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57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60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7717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12 : 4 = 3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3 x 4 = 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69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9812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24 : 8 = 3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3 x 8 = 24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81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84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8098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9 : 3 = 3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3 x 3 = 9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93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7908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18 : 6 = 3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3 x 6 = 1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05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6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42 : 7 = 6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6 x 7 = 4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17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20" name="" descr=""/>
          <p:cNvPicPr/>
          <p:nvPr/>
        </p:nvPicPr>
        <p:blipFill>
          <a:blip r:embed="rId7"/>
          <a:stretch/>
        </p:blipFill>
        <p:spPr>
          <a:xfrm>
            <a:off x="4859280" y="2133720"/>
            <a:ext cx="37432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63 : 9 = 7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7 x 9 = 6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29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7"/>
          <a:stretch/>
        </p:blipFill>
        <p:spPr>
          <a:xfrm>
            <a:off x="4859280" y="2205000"/>
            <a:ext cx="3753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3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64 : 8 = 8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8 = 64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41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44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819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32 : 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4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56 : 7 = 8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7 = 5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53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4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56" name="" descr=""/>
          <p:cNvPicPr/>
          <p:nvPr/>
        </p:nvPicPr>
        <p:blipFill>
          <a:blip r:embed="rId7"/>
          <a:stretch/>
        </p:blipFill>
        <p:spPr>
          <a:xfrm>
            <a:off x="4859280" y="2205000"/>
            <a:ext cx="37148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61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8 : 1 = 8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1 = 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65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6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68" name="" descr=""/>
          <p:cNvPicPr/>
          <p:nvPr/>
        </p:nvPicPr>
        <p:blipFill>
          <a:blip r:embed="rId7"/>
          <a:stretch/>
        </p:blipFill>
        <p:spPr>
          <a:xfrm>
            <a:off x="4788000" y="2205000"/>
            <a:ext cx="3743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36 : 6 = 6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6 x 6 = 3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77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8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80" name="" descr=""/>
          <p:cNvPicPr/>
          <p:nvPr/>
        </p:nvPicPr>
        <p:blipFill>
          <a:blip r:embed="rId7"/>
          <a:stretch/>
        </p:blipFill>
        <p:spPr>
          <a:xfrm>
            <a:off x="4788000" y="2205000"/>
            <a:ext cx="3771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8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28 : 4 = 7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7 x 4 = 2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89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92" name="" descr=""/>
          <p:cNvPicPr/>
          <p:nvPr/>
        </p:nvPicPr>
        <p:blipFill>
          <a:blip r:embed="rId7"/>
          <a:stretch/>
        </p:blipFill>
        <p:spPr>
          <a:xfrm>
            <a:off x="4788000" y="2205000"/>
            <a:ext cx="3867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0 : 10 = 0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0 x 10 = 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01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4500720" y="2205000"/>
            <a:ext cx="4321080" cy="31114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5148360" y="5661000"/>
            <a:ext cx="3456000" cy="825480"/>
          </a:xfrm>
          <a:prstGeom prst="rect">
            <a:avLst/>
          </a:prstGeom>
          <a:solidFill>
            <a:srgbClr val="e5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cc"/>
                </a:solidFill>
                <a:latin typeface="Tahoma"/>
              </a:rPr>
              <a:t>0</a:t>
            </a: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333399"/>
                </a:solidFill>
                <a:latin typeface="Tahoma"/>
              </a:rPr>
              <a:t>se cuprinde în</a:t>
            </a: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cc00cc"/>
                </a:solidFill>
                <a:latin typeface="Tahoma"/>
              </a:rPr>
              <a:t>10</a:t>
            </a: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Tahoma"/>
              </a:rPr>
              <a:t>de 0 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10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50 : 10 = 5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5 x 10 = 5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14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17" name="" descr=""/>
          <p:cNvPicPr/>
          <p:nvPr/>
        </p:nvPicPr>
        <p:blipFill>
          <a:blip r:embed="rId7"/>
          <a:stretch/>
        </p:blipFill>
        <p:spPr>
          <a:xfrm>
            <a:off x="4859280" y="2205000"/>
            <a:ext cx="3753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14 : 2 = 7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7 x 2 = 14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26" name=""/>
          <p:cNvSpPr txBox="1"/>
          <p:nvPr/>
        </p:nvSpPr>
        <p:spPr>
          <a:xfrm>
            <a:off x="826920" y="836640"/>
            <a:ext cx="17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28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788000" y="2205000"/>
            <a:ext cx="3781440" cy="423864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6732720" y="836640"/>
            <a:ext cx="1511280" cy="459720"/>
          </a:xfrm>
          <a:prstGeom prst="rect">
            <a:avLst/>
          </a:prstGeom>
          <a:solidFill>
            <a:srgbClr val="e5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ahoma"/>
              </a:rPr>
              <a:t>GAT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>
            <a:hlinkClick r:id="" action="ppaction://hlinkshowjump?jump=nextslide"/>
          </p:cNvPr>
          <p:cNvSpPr/>
          <p:nvPr/>
        </p:nvSpPr>
        <p:spPr>
          <a:xfrm rot="5400000">
            <a:off x="2232720" y="1448280"/>
            <a:ext cx="503280" cy="3168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3168720"/>
              <a:gd name="textAreaBottom" fmla="*/ 3136320 h 3168720"/>
            </a:gdLst>
            <a:ahLst/>
            <a:rect l="textAreaLeft" t="textAreaTop" r="textAreaRight" b="textAreaBottom"/>
            <a:pathLst>
              <a:path w="21600" h="135915">
                <a:moveTo>
                  <a:pt x="0" y="0"/>
                </a:moveTo>
                <a:lnTo>
                  <a:pt x="21600" y="0"/>
                </a:lnTo>
                <a:lnTo>
                  <a:pt x="21600" y="135915"/>
                </a:lnTo>
                <a:lnTo>
                  <a:pt x="0" y="135915"/>
                </a:lnTo>
                <a:close/>
              </a:path>
              <a:path fill="lightenLess" w="21600" h="135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5915">
                <a:moveTo>
                  <a:pt x="21600" y="0"/>
                </a:moveTo>
                <a:lnTo>
                  <a:pt x="21600" y="135915"/>
                </a:lnTo>
                <a:lnTo>
                  <a:pt x="20200" y="134515"/>
                </a:lnTo>
                <a:lnTo>
                  <a:pt x="20200" y="1400"/>
                </a:lnTo>
                <a:close/>
              </a:path>
              <a:path fill="darkenLess" w="21600" h="135915">
                <a:moveTo>
                  <a:pt x="21600" y="135915"/>
                </a:moveTo>
                <a:lnTo>
                  <a:pt x="0" y="135915"/>
                </a:lnTo>
                <a:lnTo>
                  <a:pt x="1400" y="134515"/>
                </a:lnTo>
                <a:lnTo>
                  <a:pt x="20200" y="134515"/>
                </a:lnTo>
                <a:close/>
              </a:path>
              <a:path fill="lighten" w="21600" h="135915">
                <a:moveTo>
                  <a:pt x="0" y="135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134515"/>
                </a:lnTo>
                <a:close/>
              </a:path>
              <a:path fill="darken" w="21600" h="135915">
                <a:moveTo>
                  <a:pt x="3794" y="60951"/>
                </a:moveTo>
                <a:lnTo>
                  <a:pt x="17806" y="67957"/>
                </a:lnTo>
                <a:lnTo>
                  <a:pt x="3794" y="74964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8360" y="2133720"/>
            <a:ext cx="381636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Fă clic pentru fina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2819520" cy="2435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1828800" y="3952800"/>
            <a:ext cx="2438280" cy="239256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 txBox="1"/>
          <p:nvPr/>
        </p:nvSpPr>
        <p:spPr>
          <a:xfrm rot="2750400">
            <a:off x="4836240" y="1283400"/>
            <a:ext cx="327636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"/>
          <p:cNvSpPr txBox="1"/>
          <p:nvPr/>
        </p:nvSpPr>
        <p:spPr>
          <a:xfrm rot="19364400">
            <a:off x="1687320" y="1260000"/>
            <a:ext cx="3276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" y="3352680"/>
            <a:ext cx="78296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şti foarte bun ! 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1652760" y="2894040"/>
            <a:ext cx="5838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 F Â R Ş I T !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9" repeatCount="indefinite">
                                  <p:stCondLst>
                                    <p:cond delay="5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7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48 : 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8:02:11Z</dcterms:created>
  <dc:creator>THX_COMPUTERS</dc:creator>
  <dc:description/>
  <dc:language>en-US</dc:language>
  <cp:lastModifiedBy>THX_COMPUTERS</cp:lastModifiedBy>
  <dcterms:modified xsi:type="dcterms:W3CDTF">2006-12-09T16:52:31Z</dcterms:modified>
  <cp:revision>7</cp:revision>
  <dc:subject/>
  <dc:title>Împărţirea prin cuprindere Alege rezultatul corect !</dc:title>
</cp:coreProperties>
</file>